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FCF-52F0-486E-9845-E1280048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8CE-51E6-4F2E-8863-53EC701F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7C8-5CAF-4828-A174-B92D52AD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F30-F4B1-4C14-BADC-A308F882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039-43DB-4AEE-9861-CE86C032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438-5C71-4641-B5B0-099E9CC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F4E-72B2-4F49-A72C-67EE5F1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6FA-D048-4815-811D-D5CAF47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34E-46E0-4B47-B02C-351DEFE6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D7D-A47B-49FD-9859-A2FFF7D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344-BE91-43DF-B102-625B0AB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46D-7FA6-451D-A7CA-E4D428BA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3E1B-1BF3-4D57-A27F-6DD397D163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ff"/>
                </a:solidFill>
                <a:latin typeface="Arial"/>
              </a:rPr>
              <a:t>National 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dded Value Un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dern 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1905120" cy="100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hat’s it all abou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7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part of the new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4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 you have to complete a project called the ‘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 Value Uni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project involves doing a presentation in the foreign language, followed by questions in the foreign language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will my presentation be on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suggest a presentation topic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then be given at least 4 themes within that topic to choose fro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work and do research on your presentation independently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hat skills will I be learn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learn how to take and make notes, good presentation skills, research skills, IT skills, questioning skills and how to work well independently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f these will help prepare you to do a good presenta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What resources can I use in my presentation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resources will be dependant on several things but you can use a power-point, photos, props, magazine articles or anything that you feel would aid your presenta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provide you with at least 2 reading resources and some language suppor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long does it have to b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5884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9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presentation should last about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ollow up questions should also last about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nut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nutes in total!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2324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will I record my progres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provide you with your own AVU Progress Record.  You will use this to evaluate your progress at various stages and to plan your next step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personal progress record will also help ensure that you are aware of timelines and help you to reflect on skills you are learning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How will my presentation be marked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use the success criteria created with the class to assess your presentation.  There is no grade for the unit.  Your overall presentation will be pass or fail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028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ny Questions??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9908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</cp:lastModifiedBy>
  <dcterms:modified xsi:type="dcterms:W3CDTF">2012-11-13T09:31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